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C0FB-3C37-4FE9-9A30-225ABEA1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E848-C893-44AD-9E58-2EEACA29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C401-BDD8-4DE9-B50A-6654E8A8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A82D-9B43-4DBA-BFE4-BA79445A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E917-AF1B-44F7-9583-ACAED81C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08EE-3F2A-432F-9881-B7486447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9D30-4821-416B-8BAF-9A9D145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7AFC-CEE0-4C1C-AF5D-6985EA2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88B8-336A-45A0-8A94-497A9A18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6311-2F40-46D8-B9C4-A8472DE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FC2-9E08-476A-B3D6-4CFABD50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927B-27ED-44EB-A6D2-3025B2C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076-7963-470F-A1CD-42E7A6D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0D27-668E-4E89-8645-A65FF67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8B6-54A9-4031-A545-450EE08A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69BB-7335-469F-9DA1-32403F38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6EEF-C0CC-4C78-BE52-EF22CE72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295D-4ED8-4742-B036-E2B3927D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3300-E265-4BA9-AFE9-6F5A5B5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4515-0F63-49EF-89F0-AB101025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9E42-F1AC-49D2-BDE6-6B07D992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B31C-C9EE-46BC-9567-EC13293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0B99-50A5-45C1-A518-6C79FFA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01DA-D268-4825-8EE4-D6B07813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F459-DB1A-4EA4-ACED-1A574B6E3B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189F-C3C7-45D9-9584-A8A047B722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pennsylvania.s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76520" y="1143000"/>
            <a:ext cx="6324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ennsylva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533412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rence McReyno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0/25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puter#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56386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nnsylvania song: 50states, 10/26,Pennsylvania, http://www.50states.com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ital City: Harrisbu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pulation: 12,281,05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tered Union: December 12, 178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ck Name: Keystone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to: Virtue, liberty, and indepen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: Mountain Laur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ing of name: named after admiral William Penn and the Latin word for wood “sylvania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d: Ruffed Gro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ne: Trilobite is found in Pennsylva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ng: Pennsylvan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133720"/>
            <a:ext cx="406728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4400" y="5410080"/>
            <a:ext cx="6629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Pennsylvani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10/25/11, http://www.enchantedlearning.com/usa/states/pennsylvani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143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the state flag of Pennsylv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1523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map of Pennsylv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All images Copyright © 1997 - 2000 WriteLine. All Rights Reserved. Harrisburg PA Capitol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396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5791320"/>
            <a:ext cx="4953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st card from America, Pennsylvania, 10/25/11, http://www.postcardsfrom.com/t1/99112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914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grand stair case of the Pennsylvania state capital 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esting 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nsylvania is a common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apital city of Harrisburg filed Bankrupt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tates largest cities are: Philadelphia, Pittsburg, and E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3:00:42Z</dcterms:created>
  <dc:creator>install</dc:creator>
  <dc:description/>
  <dc:language>en-US</dc:language>
  <cp:lastModifiedBy>install</cp:lastModifiedBy>
  <dcterms:modified xsi:type="dcterms:W3CDTF">2011-10-27T13:38:25Z</dcterms:modified>
  <cp:revision>8</cp:revision>
  <dc:subject/>
  <dc:title>Slide 1</dc:title>
</cp:coreProperties>
</file>